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CE1-5DA2-4042-AF9F-A2A7EFC48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286-BA93-4AB1-8810-90786FD0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AA5-2A4F-4163-ABAB-135BD3DE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4C3-DF71-4250-AD19-431D5DAE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66A-76B4-4D20-BF6D-9554A2BD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D8-852C-4947-9BE3-497CFADA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15E-85EB-4F83-B479-08CAE2DA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BEC-08C2-4B8B-8C03-403403F9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1429-E0DD-4A67-8246-141ECF2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65C-5098-475E-9C57-A678F87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E37-B01C-40F3-BF37-C301DA0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120-053F-4EF9-80B8-D796C29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5C8A-5A33-4C67-8613-F3E067E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63B-1CDB-4740-A011-4EE29CC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B94A-177E-4CA0-933F-66646A3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332-950C-48F9-87F3-ED216C7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B2F-1E90-47D2-9F2F-5BB18F5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6C8-690C-4EF4-997D-1DDA8E4E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F13-4C0E-47A5-95F3-677182DF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2AFE-7A2D-4C35-A3C3-5A0804A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99B9-A378-418A-9369-E4BC0E64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DDDA-0BF8-4A48-886F-833F437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ED8D-A67E-45FC-9774-DB9B2C4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019C-3DCB-411B-9B74-4DE5A24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582-36E0-4059-9801-844A546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085F-F865-4DC1-A4B0-7A41596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16A9-1E85-40C9-AA17-477DCF6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61EC-853C-4AAC-B229-2F6AA8D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683E-ED40-4565-A7A8-AB73C880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11A9-D82D-417B-92B1-F2B17A0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9AC8-ACF0-4BF0-88F3-7B8C2CA1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7E40-E20F-406B-8AFB-7B832ABC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18AF-0B3E-4071-8B5A-7987BBD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14F1-66DE-4998-BB49-C9C7D987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0A39-3B3F-4B70-B09E-74F61AF0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2C1-FC20-49CB-A21D-9061B464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FB6A-0577-4F59-8836-8D52FC68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6B92-C7A1-412A-9C1F-8F2D866E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0859-ABAF-4227-B336-56119CE7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B0D8-FAD4-466D-84C5-43C6A9EA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4904-6C02-41AE-8A95-1067328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A635-C4C7-4CEB-BB2F-DA3D698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4F49-D821-4AA3-8136-8BB5AD9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DE0E-DA48-4788-9660-652E3122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0CEF-EBFC-440B-8817-CEF97457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36CB-FAF1-4EBF-9EA1-0ACBAD9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CC5-01BD-42CE-A104-E1A7EB2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1FC4-20A8-4FE3-8B77-69D8F06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E8BB-171F-4357-B3B5-0F587522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7BA3-7B2E-4ABD-9B77-87AEB5B6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70127-C858-49EB-A4D4-A415800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14E0-64EC-40F8-AA94-F43894C9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30C9-EC65-4274-BDCA-5D5DB5D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256D-705D-4EE9-A42F-4733D650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0315-CAC4-44BA-8E36-70CD719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AA2E-CDC7-4CEA-92A7-CBF81F7F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BD1C-97A8-4491-AD39-CF5627FF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B24-B9D5-4257-A60F-736A2B5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D900-80AE-4BF2-976D-BFA6D418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F06-13A5-412F-A7CC-4D3269B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D6F-4C66-481D-B208-6DC7D7C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438-42EB-4404-A201-E94E328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647-C1AF-4B72-A456-2F9EC848251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81BE-BD57-47EF-A929-0982B01623B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0F5-5DF8-4D9E-B885-0A022633F02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158-2A33-48F6-A704-F5655FEFBF40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AAC4-ADF9-403C-82CD-6F2DA9F104B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re provided by th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SH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erkins TIA Gra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2796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Content Placeholder 3" descr="Puzzle together.jpg"/>
          <p:cNvPicPr/>
          <p:nvPr/>
        </p:nvPicPr>
        <p:blipFill>
          <a:blip r:embed="rId2"/>
          <a:stretch/>
        </p:blipFill>
        <p:spPr>
          <a:xfrm>
            <a:off x="762120" y="1905120"/>
            <a:ext cx="2895480" cy="4038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laboration Ti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together on a common go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Literac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. Reading Comprehensi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Note-Taking - Reading for Main Idea - Summarizing &amp; Paraphrasing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Reading Non-Fiction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Read more and be tested on what is read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. Writ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e clear, complete sentence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roofread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e in other classes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ing business letter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. Research Ski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Formatting APA &amp; ML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. Vocabul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Ma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Fr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east common denominators ( multipl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dd, subtract, multiply and divi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duce/simplif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Solving equ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lving for literal equations - solve for a variab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 Reading Comprehen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Focus on what they are reading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Spelling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Vocabula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Decipher new words using prefixes, suffixes, and root words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Writing complete though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. Comprehension of real life mat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. Fractions with let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6. Solving Eq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. Data Analysis and Graphing ski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Interpret data and graphs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. Motiv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teracy, Math, Science teachers will explain and discuss the focus skill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ch teacher will select one focus ski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oup will discuss ways to address that focus skill in other clas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0" y="538560"/>
            <a:ext cx="914400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Literacy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Buck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Lynch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Sa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Capehar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arti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Tram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Crawfor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Phif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atk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arnes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Popejoy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hitesca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elam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Sander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hit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775080"/>
            <a:ext cx="914400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Math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Est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Jenki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A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all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Keen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olli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ethvi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0" y="99612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Scienc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Bog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Jon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cEl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Glas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Lassit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T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THANK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YOU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3359160" y="420840"/>
            <a:ext cx="5235480" cy="2987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ednesday, January 13, 201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top with great test sco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deral and local mone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ing was enjoy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ught what we liked to tea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ducated our 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\\vssd-dc-2\faculty-homes$\jgreen\My Pictures\forn856l.jpg"/>
          <p:cNvPicPr/>
          <p:nvPr/>
        </p:nvPicPr>
        <p:blipFill>
          <a:blip r:embed="rId2"/>
          <a:stretch/>
        </p:blipFill>
        <p:spPr>
          <a:xfrm>
            <a:off x="685800" y="1523880"/>
            <a:ext cx="7010280" cy="3886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990720" y="5791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know why these people are always complaining, we give them stimulating challenging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 let them do it 80 hours a we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523880"/>
            <a:ext cx="7238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count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ndar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deral and local money iss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test sco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working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option of National Standards and Testing Assess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among states for Federal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igher Account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rit Pay for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We all have a fear of the unknown what one does with that fear will make all the difference in the world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4572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Content Placeholder 9" descr="puzzle1.gif"/>
          <p:cNvPicPr/>
          <p:nvPr/>
        </p:nvPicPr>
        <p:blipFill>
          <a:blip r:embed="rId2"/>
          <a:stretch/>
        </p:blipFill>
        <p:spPr>
          <a:xfrm>
            <a:off x="762120" y="388620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uzzle2.gif"/>
          <p:cNvPicPr/>
          <p:nvPr/>
        </p:nvPicPr>
        <p:blipFill>
          <a:blip r:embed="rId3"/>
          <a:stretch/>
        </p:blipFill>
        <p:spPr>
          <a:xfrm>
            <a:off x="3962520" y="541008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puzzle3.gif"/>
          <p:cNvPicPr/>
          <p:nvPr/>
        </p:nvPicPr>
        <p:blipFill>
          <a:blip r:embed="rId4"/>
          <a:stretch/>
        </p:blipFill>
        <p:spPr>
          <a:xfrm>
            <a:off x="5181480" y="21337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puzzle3.gif"/>
          <p:cNvPicPr/>
          <p:nvPr/>
        </p:nvPicPr>
        <p:blipFill>
          <a:blip r:embed="rId5"/>
          <a:stretch/>
        </p:blipFill>
        <p:spPr>
          <a:xfrm>
            <a:off x="6095880" y="55627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puzzle4.gif"/>
          <p:cNvPicPr/>
          <p:nvPr/>
        </p:nvPicPr>
        <p:blipFill>
          <a:blip r:embed="rId6"/>
          <a:stretch/>
        </p:blipFill>
        <p:spPr>
          <a:xfrm>
            <a:off x="2133720" y="1828800"/>
            <a:ext cx="971280" cy="1085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puzzle4.gif"/>
          <p:cNvPicPr/>
          <p:nvPr/>
        </p:nvPicPr>
        <p:blipFill>
          <a:blip r:embed="rId7"/>
          <a:stretch/>
        </p:blipFill>
        <p:spPr>
          <a:xfrm>
            <a:off x="6553080" y="1600200"/>
            <a:ext cx="971640" cy="108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puzzle4.gif"/>
          <p:cNvPicPr/>
          <p:nvPr/>
        </p:nvPicPr>
        <p:blipFill>
          <a:blip r:embed="rId8"/>
          <a:stretch/>
        </p:blipFill>
        <p:spPr>
          <a:xfrm>
            <a:off x="4038480" y="2971800"/>
            <a:ext cx="971640" cy="108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puzzle4.gif"/>
          <p:cNvPicPr/>
          <p:nvPr/>
        </p:nvPicPr>
        <p:blipFill>
          <a:blip r:embed="rId9"/>
          <a:stretch/>
        </p:blipFill>
        <p:spPr>
          <a:xfrm>
            <a:off x="1676520" y="4800600"/>
            <a:ext cx="971280" cy="1085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puzzle3.gif"/>
          <p:cNvPicPr/>
          <p:nvPr/>
        </p:nvPicPr>
        <p:blipFill>
          <a:blip r:embed="rId10"/>
          <a:stretch/>
        </p:blipFill>
        <p:spPr>
          <a:xfrm>
            <a:off x="3200400" y="41911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puzzle3.gif"/>
          <p:cNvPicPr/>
          <p:nvPr/>
        </p:nvPicPr>
        <p:blipFill>
          <a:blip r:embed="rId11"/>
          <a:stretch/>
        </p:blipFill>
        <p:spPr>
          <a:xfrm>
            <a:off x="838080" y="2666880"/>
            <a:ext cx="1076400" cy="1095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puzzle2.gif"/>
          <p:cNvPicPr/>
          <p:nvPr/>
        </p:nvPicPr>
        <p:blipFill>
          <a:blip r:embed="rId12"/>
          <a:stretch/>
        </p:blipFill>
        <p:spPr>
          <a:xfrm>
            <a:off x="2286000" y="3352680"/>
            <a:ext cx="1238400" cy="943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puzzle2.gif"/>
          <p:cNvPicPr/>
          <p:nvPr/>
        </p:nvPicPr>
        <p:blipFill>
          <a:blip r:embed="rId13"/>
          <a:stretch/>
        </p:blipFill>
        <p:spPr>
          <a:xfrm>
            <a:off x="6248520" y="335268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puzzle2.gif"/>
          <p:cNvPicPr/>
          <p:nvPr/>
        </p:nvPicPr>
        <p:blipFill>
          <a:blip r:embed="rId14"/>
          <a:stretch/>
        </p:blipFill>
        <p:spPr>
          <a:xfrm>
            <a:off x="609480" y="1447920"/>
            <a:ext cx="1238400" cy="9428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9" descr="puzzle1.gif"/>
          <p:cNvPicPr/>
          <p:nvPr/>
        </p:nvPicPr>
        <p:blipFill>
          <a:blip r:embed="rId15"/>
          <a:stretch/>
        </p:blipFill>
        <p:spPr>
          <a:xfrm>
            <a:off x="5029200" y="4191120"/>
            <a:ext cx="1000080" cy="1085760"/>
          </a:xfrm>
          <a:prstGeom prst="rect">
            <a:avLst/>
          </a:prstGeom>
          <a:ln w="0">
            <a:noFill/>
          </a:ln>
        </p:spPr>
      </p:pic>
      <p:pic>
        <p:nvPicPr>
          <p:cNvPr id="258" name="Content Placeholder 9" descr="puzzle1.gif"/>
          <p:cNvPicPr/>
          <p:nvPr/>
        </p:nvPicPr>
        <p:blipFill>
          <a:blip r:embed="rId16"/>
          <a:stretch/>
        </p:blipFill>
        <p:spPr>
          <a:xfrm>
            <a:off x="3657600" y="1523880"/>
            <a:ext cx="923760" cy="10861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9" descr="puzzle1.gif"/>
          <p:cNvPicPr/>
          <p:nvPr/>
        </p:nvPicPr>
        <p:blipFill>
          <a:blip r:embed="rId17"/>
          <a:stretch/>
        </p:blipFill>
        <p:spPr>
          <a:xfrm>
            <a:off x="28195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8"/>
          <p:cNvSpPr/>
          <p:nvPr/>
        </p:nvSpPr>
        <p:spPr>
          <a:xfrm>
            <a:off x="838080" y="1752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9"/>
          <p:cNvSpPr/>
          <p:nvPr/>
        </p:nvSpPr>
        <p:spPr>
          <a:xfrm>
            <a:off x="37339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0"/>
          <p:cNvSpPr/>
          <p:nvPr/>
        </p:nvSpPr>
        <p:spPr>
          <a:xfrm>
            <a:off x="24382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1"/>
          <p:cNvSpPr/>
          <p:nvPr/>
        </p:nvSpPr>
        <p:spPr>
          <a:xfrm>
            <a:off x="3276720" y="4648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2"/>
          <p:cNvSpPr/>
          <p:nvPr/>
        </p:nvSpPr>
        <p:spPr>
          <a:xfrm>
            <a:off x="6553080" y="19051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3"/>
          <p:cNvSpPr/>
          <p:nvPr/>
        </p:nvSpPr>
        <p:spPr>
          <a:xfrm>
            <a:off x="990720" y="29718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4"/>
          <p:cNvSpPr/>
          <p:nvPr/>
        </p:nvSpPr>
        <p:spPr>
          <a:xfrm>
            <a:off x="236232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525780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6"/>
          <p:cNvSpPr/>
          <p:nvPr/>
        </p:nvSpPr>
        <p:spPr>
          <a:xfrm>
            <a:off x="76212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7"/>
          <p:cNvSpPr/>
          <p:nvPr/>
        </p:nvSpPr>
        <p:spPr>
          <a:xfrm>
            <a:off x="4038480" y="33526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8"/>
          <p:cNvSpPr/>
          <p:nvPr/>
        </p:nvSpPr>
        <p:spPr>
          <a:xfrm>
            <a:off x="5029200" y="4419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9"/>
          <p:cNvSpPr/>
          <p:nvPr/>
        </p:nvSpPr>
        <p:spPr>
          <a:xfrm>
            <a:off x="61722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0"/>
          <p:cNvSpPr/>
          <p:nvPr/>
        </p:nvSpPr>
        <p:spPr>
          <a:xfrm>
            <a:off x="4038480" y="5715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s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1"/>
          <p:cNvSpPr/>
          <p:nvPr/>
        </p:nvSpPr>
        <p:spPr>
          <a:xfrm>
            <a:off x="64771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2"/>
          <p:cNvSpPr/>
          <p:nvPr/>
        </p:nvSpPr>
        <p:spPr>
          <a:xfrm>
            <a:off x="1676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2819520" y="5867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3" descr="puzzlefour.jpg"/>
          <p:cNvPicPr/>
          <p:nvPr/>
        </p:nvPicPr>
        <p:blipFill>
          <a:blip r:embed="rId2"/>
          <a:stretch/>
        </p:blipFill>
        <p:spPr>
          <a:xfrm>
            <a:off x="609480" y="1905120"/>
            <a:ext cx="6782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1:24Z</dcterms:created>
  <dc:creator>jgreen</dc:creator>
  <dc:description/>
  <dc:language>en-US</dc:language>
  <cp:lastModifiedBy>jgreen</cp:lastModifiedBy>
  <dcterms:modified xsi:type="dcterms:W3CDTF">2010-01-13T19:35:01Z</dcterms:modified>
  <cp:revision>61</cp:revision>
  <dc:subject/>
  <dc:title>Total Instructional Alignment Grant</dc:title>
</cp:coreProperties>
</file>